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CCF52-D899-4A75-8702-6494F7CD1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BB96-8D47-41E5-BAA9-D350F3445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861DD-1879-4045-A281-7E776414C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7B071-E7FC-413B-AC11-5DF43D72D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33016-20F1-4147-8840-78980BEE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CBC5-8A27-4A6A-BF61-0D89174F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ED66-ED5E-48F0-BD6B-D601FDD1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6BEC3-A444-4A33-B384-24A2348E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D475-BD0E-40D9-B009-0713B7A2E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95D2-734E-47B0-9DD3-24026BD0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8277-8F7F-41F9-97A6-104AD3281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4315-8BCC-4A4B-86FE-8909CAF95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3735-C9A3-45D4-A0D0-2FA989557DE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800" spc="-1" strike="noStrike">
                <a:solidFill>
                  <a:srgbClr val="000000"/>
                </a:solidFill>
                <a:latin typeface="Calibri"/>
              </a:rPr>
              <a:t>Factors Affecting Farm Typ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apital</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ey is vitally important when setting up a farm, or trying to run on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bsidies and government policies have helped in some cases but they have also meant that farming is having to become more efficient and technological to surviv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prices fall for farm products, so the farmer's profits also fall, meaning he can employ less people and buy less seeds and animals for the following year.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a vicious downward trend experienced in many farming communit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hoic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may have a number of choices over which type of farming he is going to follow.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rmally this is determined by the climate, soils and the relief.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farmers are increasingly having to turn to farming crops or animals that will bring them the most money, rather than which ones may be best suited to th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Climat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st important factors in deciding what type of farming might occur in a certain are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t considerations for farmers are the hours of sunshine, the average temperature and the amount of rainf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Labour</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very farm needs workers, and so farms need these sources of labou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the old days there would have been many people doing very labour intensive jobs around the farm.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with farming becoming increasingly mechanised the numbers of people working on farms has diminished and many of those people tend to be more like farm managers rather than actually getting out and doing the dirty work.</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arket</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market is very important for a farmer.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e must know that he is going to be able to sell his produce at a good price, in order to make a profi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Quotas and subsidies have been brought in to try to help farmers as the prices of their produce have fallen over the last twenty year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rmers increasingly have to decide exactly what they are going to grow by the price that they will get for their produ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olitics</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and International farming policies have had a huge impact on many farms around the worl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urope the Common Agricultural Policy (CAP) and EU regulations have meant that farmers are protected and that their produce will be bough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y have also meant some farmers have had to completely change what they are growing to suit the new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lief</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relief of the land is a very important factor in determining the type of agricultural activity that can take place on it.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lat, sheltered areas are usually best for crops as it is easy to use machinery and there will be the best climatic conditions for crop growth.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eep slopes are more likely to be used for sheep and cattle farming, such as in the valley of South Wal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However in countries such as Indonesia the steep slopes have been terraced to allow rice to grow.</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oils</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ck, well-irrigated, often alluvial (deposited by a river) soil is usually the best for crop farm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tain the best soil for arable farming can be found in Norfolk and other Eastern areas of the count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hilly areas the soil tends to be thinner and less fertile, meaning it is more suitable for pasture far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4:08:12Z</dcterms:created>
  <dc:creator>Dell_02</dc:creator>
  <dc:description/>
  <dc:language>en-US</dc:language>
  <cp:lastModifiedBy>Dell_02</cp:lastModifiedBy>
  <dcterms:modified xsi:type="dcterms:W3CDTF">2011-01-27T14:15:41Z</dcterms:modified>
  <cp:revision>1</cp:revision>
  <dc:subject/>
  <dc:title>Factors Affecting Farm Type</dc:title>
</cp:coreProperties>
</file>